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9.png" ContentType="image/png"/>
  <Override PartName="/ppt/media/image11.jpeg" ContentType="image/jpeg"/>
  <Override PartName="/ppt/media/image18.jpeg" ContentType="image/jpeg"/>
  <Override PartName="/ppt/media/image7.png" ContentType="image/png"/>
  <Override PartName="/ppt/media/image16.png" ContentType="image/png"/>
  <Override PartName="/ppt/media/image15.jpeg" ContentType="image/jpeg"/>
  <Override PartName="/ppt/media/image1.wmf" ContentType="image/x-wmf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26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2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7680" y="684000"/>
            <a:ext cx="4564080" cy="342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33680"/>
            <a:ext cx="5029200" cy="41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6916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6916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E395-A168-4D39-BBA7-ABCD5126B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6916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8317-4243-4702-A28F-518779662832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7680" y="68436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33680"/>
            <a:ext cx="5029200" cy="410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&amp; intellig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ória de uso = armazenamento e gerenciamento de informações histór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bre os hábitos de uso, consulta, consumo, … que objetiva, a medida do temp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quar o contéudo de informações e rotinas operacionais de acordo com o perf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cada usuár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6916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3FC6-7BB4-4056-9E9A-E8ABB48A7A10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7680" y="68436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33680"/>
            <a:ext cx="5029200" cy="41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6916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2519-C093-4459-8278-928DD4741F7F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7680" y="68436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33680"/>
            <a:ext cx="5029200" cy="41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6916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6AB8-E4F5-44B0-81A0-6FB43636F4D0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7680" y="68436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33680"/>
            <a:ext cx="5029200" cy="41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6916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4997-B0AA-4F56-AFBB-935EBFDB4539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7680" y="68436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33680"/>
            <a:ext cx="5029200" cy="41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6916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F1C2-27CC-4B38-B1FE-CF4CECBE0368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7680" y="68436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33680"/>
            <a:ext cx="5029200" cy="410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uém dúvida dis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ão quem acreditarem nisto e as mulheres virgens aqui presentes devem ler em voz al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OS JU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6916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D812-CA9A-4A1D-93BA-F1BBB5CB2EB3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7680" y="68436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33680"/>
            <a:ext cx="5029200" cy="41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0" y="6467400"/>
            <a:ext cx="9144000" cy="39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"/>
          <p:cNvPicPr/>
          <p:nvPr/>
        </p:nvPicPr>
        <p:blipFill>
          <a:blip r:embed="rId3"/>
          <a:stretch/>
        </p:blipFill>
        <p:spPr>
          <a:xfrm>
            <a:off x="7093080" y="6021360"/>
            <a:ext cx="18399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Arial"/>
              </a:rPr>
              <a:t>CRM</a:t>
            </a:r>
            <a:br>
              <a:rPr sz="3600"/>
            </a:br>
            <a:r>
              <a:rPr b="1" lang="en-US" sz="3600" spc="-1" strike="noStrike">
                <a:solidFill>
                  <a:srgbClr val="6666ff"/>
                </a:solidFill>
                <a:latin typeface="Arial"/>
              </a:rPr>
              <a:t>Customer</a:t>
            </a:r>
            <a:br>
              <a:rPr sz="3600"/>
            </a:br>
            <a:r>
              <a:rPr b="1" lang="en-US" sz="3600" spc="-1" strike="noStrike">
                <a:solidFill>
                  <a:srgbClr val="6666ff"/>
                </a:solidFill>
                <a:latin typeface="Arial"/>
              </a:rPr>
              <a:t>Relationship</a:t>
            </a:r>
            <a:br>
              <a:rPr sz="3600"/>
            </a:br>
            <a:r>
              <a:rPr b="1" lang="en-US" sz="3600" spc="-1" strike="noStrike">
                <a:solidFill>
                  <a:srgbClr val="6666ff"/>
                </a:solidFill>
                <a:latin typeface="Arial"/>
              </a:rPr>
              <a:t> Management  </a:t>
            </a:r>
            <a:endParaRPr b="1" lang="en-US" sz="36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40480" y="5122800"/>
            <a:ext cx="344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Rômulo Barros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romulotb@hotmail.com.b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66ff"/>
                </a:solidFill>
                <a:latin typeface="Arial"/>
              </a:rPr>
              <a:t>CRM: Benefícios</a:t>
            </a: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Aumento do valor da venda ao mesmo cliente: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4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Cross-selling - vendas casadas</a:t>
            </a:r>
            <a:br>
              <a:rPr sz="2800"/>
            </a:b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Ex: refeição + sobremesa</a:t>
            </a:r>
            <a:endParaRPr b="0" lang="en-US" sz="2800" spc="-1" strike="noStrike">
              <a:solidFill>
                <a:srgbClr val="00004a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4a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4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Up-selling - vendas melhoradas</a:t>
            </a:r>
            <a:br>
              <a:rPr sz="2800"/>
            </a:b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Ex: prato médio + $ = prato grande</a:t>
            </a:r>
            <a:endParaRPr b="0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7610400" y="0"/>
            <a:ext cx="1533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pt-BR" sz="4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pt-BR" sz="4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pt-BR" sz="4000" spc="-1" strike="noStrike">
                <a:solidFill>
                  <a:srgbClr val="6666ff"/>
                </a:solidFill>
                <a:latin typeface="Arial"/>
              </a:rPr>
              <a:t>CRM: Benefícios</a:t>
            </a: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Integração do ponto de contato com o cliente (canais múltiplos)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Repositório de dados e histórico do cliente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Leads Qualificados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De redução de custos para geração de receitas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Melhoria, correção e gerenciamento do processo de vendas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pic>
        <p:nvPicPr>
          <p:cNvPr id="90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66ff"/>
                </a:solidFill>
                <a:latin typeface="Arial"/>
              </a:rPr>
              <a:t>CRM: Benefícios</a:t>
            </a: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0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4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Aumento do faturamento: 12%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4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Melhoria da margem: 2%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4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Aumento da taxa de satisfação de clientes: 25%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4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Queda em custos de vendas: 35%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4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Queda no ciclo de venda: 25%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4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Queda em custos de serviços: 40%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62120" y="574488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Fonte: Ernst &amp; Young Consulting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4" name="Object 5" descr="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14480" y="1143000"/>
            <a:ext cx="9029520" cy="5743440"/>
            <a:chOff x="114480" y="1143000"/>
            <a:chExt cx="9029520" cy="5743440"/>
          </a:xfrm>
        </p:grpSpPr>
        <p:sp>
          <p:nvSpPr>
            <p:cNvPr id="96" name="AutoShape 3"/>
            <p:cNvSpPr/>
            <p:nvPr/>
          </p:nvSpPr>
          <p:spPr>
            <a:xfrm>
              <a:off x="3429000" y="1662120"/>
              <a:ext cx="5715000" cy="482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5400000"/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7" name="Picture 4" descr=""/>
            <p:cNvPicPr/>
            <p:nvPr/>
          </p:nvPicPr>
          <p:blipFill>
            <a:blip r:embed="rId1"/>
            <a:stretch/>
          </p:blipFill>
          <p:spPr>
            <a:xfrm>
              <a:off x="4038480" y="5225400"/>
              <a:ext cx="1524240" cy="98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5"/>
            <p:cNvSpPr/>
            <p:nvPr/>
          </p:nvSpPr>
          <p:spPr>
            <a:xfrm>
              <a:off x="4572000" y="6042240"/>
              <a:ext cx="1219320" cy="70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aramond"/>
                </a:rPr>
                <a:t>Serviço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6" descr=""/>
            <p:cNvPicPr/>
            <p:nvPr/>
          </p:nvPicPr>
          <p:blipFill>
            <a:blip r:embed="rId2"/>
            <a:stretch/>
          </p:blipFill>
          <p:spPr>
            <a:xfrm>
              <a:off x="190440" y="4854240"/>
              <a:ext cx="1600200" cy="103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7"/>
            <p:cNvSpPr/>
            <p:nvPr/>
          </p:nvSpPr>
          <p:spPr>
            <a:xfrm>
              <a:off x="1905120" y="1884960"/>
              <a:ext cx="1447560" cy="337320"/>
            </a:xfrm>
            <a:prstGeom prst="rect">
              <a:avLst/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Garamond"/>
                </a:rPr>
                <a:t>Webs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101" name="Picture 8" descr=""/>
            <p:cNvPicPr/>
            <p:nvPr/>
          </p:nvPicPr>
          <p:blipFill>
            <a:blip r:embed="rId3"/>
            <a:stretch/>
          </p:blipFill>
          <p:spPr>
            <a:xfrm>
              <a:off x="4816440" y="3443760"/>
              <a:ext cx="1050840" cy="15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9" descr=""/>
            <p:cNvPicPr/>
            <p:nvPr/>
          </p:nvPicPr>
          <p:blipFill>
            <a:blip r:embed="rId4"/>
            <a:stretch/>
          </p:blipFill>
          <p:spPr>
            <a:xfrm>
              <a:off x="4495680" y="1736640"/>
              <a:ext cx="1063800" cy="15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0" descr=""/>
            <p:cNvPicPr/>
            <p:nvPr/>
          </p:nvPicPr>
          <p:blipFill>
            <a:blip r:embed="rId5"/>
            <a:stretch/>
          </p:blipFill>
          <p:spPr>
            <a:xfrm>
              <a:off x="299880" y="1365480"/>
              <a:ext cx="1382760" cy="200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11"/>
            <p:cNvSpPr/>
            <p:nvPr/>
          </p:nvSpPr>
          <p:spPr>
            <a:xfrm>
              <a:off x="190440" y="3416040"/>
              <a:ext cx="156204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aramond"/>
                </a:rPr>
                <a:t>Cliente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4191120" y="4752360"/>
              <a:ext cx="175248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aramond"/>
                </a:rPr>
                <a:t>Venda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3809880" y="3072600"/>
              <a:ext cx="175284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aramond"/>
                </a:rPr>
                <a:t>Marketing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1905120" y="2690640"/>
              <a:ext cx="1447560" cy="337320"/>
            </a:xfrm>
            <a:prstGeom prst="rect">
              <a:avLst/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Garamond"/>
                </a:rPr>
                <a:t>Face a fac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Text Box 15"/>
            <p:cNvSpPr/>
            <p:nvPr/>
          </p:nvSpPr>
          <p:spPr>
            <a:xfrm>
              <a:off x="1905120" y="3496320"/>
              <a:ext cx="1447560" cy="337320"/>
            </a:xfrm>
            <a:prstGeom prst="rect">
              <a:avLst/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Garamond"/>
                </a:rPr>
                <a:t>Telefon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1905120" y="4302360"/>
              <a:ext cx="1447560" cy="337320"/>
            </a:xfrm>
            <a:prstGeom prst="rect">
              <a:avLst/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Garamond"/>
                </a:rPr>
                <a:t>E-mai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Text Box 17"/>
            <p:cNvSpPr/>
            <p:nvPr/>
          </p:nvSpPr>
          <p:spPr>
            <a:xfrm>
              <a:off x="1905120" y="5107680"/>
              <a:ext cx="1447560" cy="337320"/>
            </a:xfrm>
            <a:prstGeom prst="rect">
              <a:avLst/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Garamond"/>
                </a:rPr>
                <a:t>Fax/Cart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114480" y="5967720"/>
              <a:ext cx="175248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aramond"/>
                </a:rPr>
                <a:t>Parceir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 rot="3603000">
              <a:off x="732600" y="4142880"/>
              <a:ext cx="667800" cy="457200"/>
            </a:xfrm>
            <a:prstGeom prst="leftRightArrow">
              <a:avLst>
                <a:gd name="adj1" fmla="val 50000"/>
                <a:gd name="adj2" fmla="val 29077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113" name="Picture 20" descr="j0216070"/>
            <p:cNvPicPr/>
            <p:nvPr/>
          </p:nvPicPr>
          <p:blipFill>
            <a:blip r:embed="rId6"/>
            <a:stretch/>
          </p:blipFill>
          <p:spPr>
            <a:xfrm>
              <a:off x="7124760" y="5519160"/>
              <a:ext cx="137160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21"/>
            <p:cNvSpPr/>
            <p:nvPr/>
          </p:nvSpPr>
          <p:spPr>
            <a:xfrm>
              <a:off x="6934320" y="64857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aramond"/>
                </a:rPr>
                <a:t>BackOffic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Text Box 22"/>
            <p:cNvSpPr/>
            <p:nvPr/>
          </p:nvSpPr>
          <p:spPr>
            <a:xfrm>
              <a:off x="4114800" y="64875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aramond"/>
                </a:rPr>
                <a:t>FrontOffic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6629400" y="1143000"/>
              <a:ext cx="2286000" cy="825480"/>
            </a:xfrm>
            <a:prstGeom prst="rect">
              <a:avLst/>
            </a:prstGeom>
            <a:gradFill rotWithShape="0">
              <a:gsLst>
                <a:gs pos="0">
                  <a:srgbClr val="5e1847"/>
                </a:gs>
                <a:gs pos="50000">
                  <a:srgbClr val="cc3399"/>
                </a:gs>
                <a:gs pos="100000">
                  <a:srgbClr val="5e1847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Garamond"/>
                </a:rPr>
                <a:t>Gerenciamento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 rot="1738800">
              <a:off x="6019920" y="2998440"/>
              <a:ext cx="685800" cy="445320"/>
            </a:xfrm>
            <a:prstGeom prst="leftRightArrow">
              <a:avLst>
                <a:gd name="adj1" fmla="val 50000"/>
                <a:gd name="adj2" fmla="val 30657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AutoShape 25"/>
            <p:cNvSpPr/>
            <p:nvPr/>
          </p:nvSpPr>
          <p:spPr>
            <a:xfrm>
              <a:off x="6018120" y="3889080"/>
              <a:ext cx="685800" cy="445320"/>
            </a:xfrm>
            <a:prstGeom prst="leftRightArrow">
              <a:avLst>
                <a:gd name="adj1" fmla="val 50000"/>
                <a:gd name="adj2" fmla="val 30657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AutoShape 26"/>
            <p:cNvSpPr/>
            <p:nvPr/>
          </p:nvSpPr>
          <p:spPr>
            <a:xfrm rot="19327200">
              <a:off x="6019920" y="5002200"/>
              <a:ext cx="685800" cy="445320"/>
            </a:xfrm>
            <a:prstGeom prst="leftRightArrow">
              <a:avLst>
                <a:gd name="adj1" fmla="val 50000"/>
                <a:gd name="adj2" fmla="val 30657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0" name="Group 27"/>
            <p:cNvGrpSpPr/>
            <p:nvPr/>
          </p:nvGrpSpPr>
          <p:grpSpPr>
            <a:xfrm>
              <a:off x="6981120" y="3369600"/>
              <a:ext cx="1665000" cy="1306080"/>
              <a:chOff x="6981120" y="3369600"/>
              <a:chExt cx="1665000" cy="1306080"/>
            </a:xfrm>
          </p:grpSpPr>
          <p:grpSp>
            <p:nvGrpSpPr>
              <p:cNvPr id="121" name="Group 28"/>
              <p:cNvGrpSpPr/>
              <p:nvPr/>
            </p:nvGrpSpPr>
            <p:grpSpPr>
              <a:xfrm>
                <a:off x="7116840" y="3369600"/>
                <a:ext cx="1465200" cy="1306080"/>
                <a:chOff x="7116840" y="3369600"/>
                <a:chExt cx="1465200" cy="1306080"/>
              </a:xfrm>
            </p:grpSpPr>
            <p:sp>
              <p:nvSpPr>
                <p:cNvPr id="122" name="Freeform 29"/>
                <p:cNvSpPr/>
                <p:nvPr/>
              </p:nvSpPr>
              <p:spPr>
                <a:xfrm>
                  <a:off x="7269120" y="3517560"/>
                  <a:ext cx="1288440" cy="1158120"/>
                </a:xfrm>
                <a:prstGeom prst="pi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Freeform 30"/>
                <p:cNvSpPr/>
                <p:nvPr/>
              </p:nvSpPr>
              <p:spPr>
                <a:xfrm>
                  <a:off x="7116840" y="3508560"/>
                  <a:ext cx="209160" cy="1109880"/>
                </a:xfrm>
                <a:prstGeom prst="pi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Oval 31"/>
                <p:cNvSpPr/>
                <p:nvPr/>
              </p:nvSpPr>
              <p:spPr>
                <a:xfrm>
                  <a:off x="7116840" y="3369600"/>
                  <a:ext cx="1465200" cy="278280"/>
                </a:xfrm>
                <a:prstGeom prst="ellips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Freeform 32"/>
                <p:cNvSpPr/>
                <p:nvPr/>
              </p:nvSpPr>
              <p:spPr>
                <a:xfrm>
                  <a:off x="7492680" y="3429720"/>
                  <a:ext cx="726840" cy="83160"/>
                </a:xfrm>
                <a:prstGeom prst="pi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Oval 33"/>
                <p:cNvSpPr/>
                <p:nvPr/>
              </p:nvSpPr>
              <p:spPr>
                <a:xfrm>
                  <a:off x="7484760" y="3448440"/>
                  <a:ext cx="730080" cy="12348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Text Box 34"/>
              <p:cNvSpPr/>
              <p:nvPr/>
            </p:nvSpPr>
            <p:spPr>
              <a:xfrm>
                <a:off x="6981120" y="3800520"/>
                <a:ext cx="16650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Garamond"/>
                  </a:rPr>
                  <a:t>Conheciment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Garamond"/>
                  </a:rPr>
                  <a:t>do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Garamond"/>
                  </a:rPr>
                  <a:t>Clien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8" name="AutoShape 35"/>
            <p:cNvSpPr/>
            <p:nvPr/>
          </p:nvSpPr>
          <p:spPr>
            <a:xfrm rot="5400000">
              <a:off x="7476480" y="4885200"/>
              <a:ext cx="667800" cy="457200"/>
            </a:xfrm>
            <a:prstGeom prst="leftRightArrow">
              <a:avLst>
                <a:gd name="adj1" fmla="val 50000"/>
                <a:gd name="adj2" fmla="val 29077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1828800" y="1143000"/>
              <a:ext cx="1687680" cy="459720"/>
            </a:xfrm>
            <a:prstGeom prst="rect">
              <a:avLst/>
            </a:prstGeom>
            <a:gradFill rotWithShape="0">
              <a:gsLst>
                <a:gs pos="0">
                  <a:srgbClr val="5e0047"/>
                </a:gs>
                <a:gs pos="50000">
                  <a:srgbClr val="cc0099"/>
                </a:gs>
                <a:gs pos="100000">
                  <a:srgbClr val="5e00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Garamond"/>
                </a:rPr>
                <a:t>Canai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Text Box 37"/>
            <p:cNvSpPr/>
            <p:nvPr/>
          </p:nvSpPr>
          <p:spPr>
            <a:xfrm>
              <a:off x="4219560" y="1143000"/>
              <a:ext cx="1689120" cy="825480"/>
            </a:xfrm>
            <a:prstGeom prst="rect">
              <a:avLst/>
            </a:prstGeom>
            <a:gradFill rotWithShape="0">
              <a:gsLst>
                <a:gs pos="0">
                  <a:srgbClr val="5e0047"/>
                </a:gs>
                <a:gs pos="50000">
                  <a:srgbClr val="cc0099"/>
                </a:gs>
                <a:gs pos="100000">
                  <a:srgbClr val="5e00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Garamond"/>
                </a:rPr>
                <a:t>Processo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6666ff"/>
                </a:solidFill>
                <a:latin typeface="Arial"/>
              </a:rPr>
              <a:t>CRM</a:t>
            </a:r>
            <a:endParaRPr b="1" lang="en-US" sz="72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66ff"/>
                </a:solidFill>
                <a:latin typeface="Arial"/>
              </a:rPr>
              <a:t>Objetivos do CRM</a:t>
            </a: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238880" cy="49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Gerenciar clientes como ativos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Identificar, atrair, reter e ... explorar!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Focar em grupos específicos ou </a:t>
            </a:r>
            <a:br>
              <a:rPr sz="3200"/>
            </a:b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mais amplos?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Conhecer hábitos e preferências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Personalizar ofertas e antecipar desejos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66ff"/>
                </a:solidFill>
                <a:latin typeface="Arial"/>
              </a:rPr>
              <a:t>Call Center</a:t>
            </a: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72000" y="3141720"/>
            <a:ext cx="26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Verdana"/>
              </a:rPr>
              <a:t>Call Cent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6" name="Picture 4" descr="call"/>
          <p:cNvPicPr/>
          <p:nvPr/>
        </p:nvPicPr>
        <p:blipFill>
          <a:blip r:embed="rId1"/>
          <a:stretch/>
        </p:blipFill>
        <p:spPr>
          <a:xfrm>
            <a:off x="914400" y="1044720"/>
            <a:ext cx="7391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66ff"/>
                </a:solidFill>
                <a:latin typeface="Arial"/>
              </a:rPr>
              <a:t>Marketing</a:t>
            </a: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Campanha com script dinâmico 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Marketing ativo/receptivo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4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4a"/>
                </a:solidFill>
                <a:latin typeface="Bookman Old Style"/>
              </a:rPr>
              <a:t>Cronograma de contatos</a:t>
            </a:r>
            <a:endParaRPr b="0" lang="en-US" sz="2400" spc="-1" strike="noStrike">
              <a:solidFill>
                <a:srgbClr val="00004a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4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4a"/>
                </a:solidFill>
                <a:latin typeface="Bookman Old Style"/>
              </a:rPr>
              <a:t>Atendimento de prospects</a:t>
            </a:r>
            <a:endParaRPr b="0" lang="en-US" sz="2400" spc="-1" strike="noStrike">
              <a:solidFill>
                <a:srgbClr val="00004a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4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4a"/>
                </a:solidFill>
                <a:latin typeface="Bookman Old Style"/>
              </a:rPr>
              <a:t>Mídia, Comunicação, Motivo e Encerramento</a:t>
            </a:r>
            <a:endParaRPr b="0" lang="en-US" sz="2400" spc="-1" strike="noStrike">
              <a:solidFill>
                <a:srgbClr val="00004a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4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4a"/>
                </a:solidFill>
                <a:latin typeface="Bookman Old Style"/>
              </a:rPr>
              <a:t>Sugestões, reclamações e solicitações de informações dos produtos</a:t>
            </a:r>
            <a:endParaRPr b="0" lang="en-US" sz="24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Integração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4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4a"/>
                </a:solidFill>
                <a:latin typeface="Bookman Old Style"/>
              </a:rPr>
              <a:t>CTI</a:t>
            </a:r>
            <a:endParaRPr b="0" lang="en-US" sz="2400" spc="-1" strike="noStrike">
              <a:solidFill>
                <a:srgbClr val="00004a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4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4a"/>
                </a:solidFill>
                <a:latin typeface="Bookman Old Style"/>
              </a:rPr>
              <a:t>ERP AP5</a:t>
            </a:r>
            <a:endParaRPr b="0" lang="en-US" sz="2400" spc="-1" strike="noStrike">
              <a:solidFill>
                <a:srgbClr val="00004a"/>
              </a:solidFill>
              <a:latin typeface="Bookman Old Style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66ff"/>
                </a:solidFill>
                <a:latin typeface="Arial"/>
              </a:rPr>
              <a:t>Vendas</a:t>
            </a: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One-to-one, up-sell e cross-sell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Campanha com script dinâmico 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Venda ativa/receptiva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00004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4a"/>
                </a:solidFill>
                <a:latin typeface="Bookman Old Style"/>
              </a:rPr>
              <a:t>Cronograma</a:t>
            </a:r>
            <a:endParaRPr b="0" lang="en-US" sz="2400" spc="-1" strike="noStrike">
              <a:solidFill>
                <a:srgbClr val="00004a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00004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4a"/>
                </a:solidFill>
                <a:latin typeface="Bookman Old Style"/>
              </a:rPr>
              <a:t>Promoções</a:t>
            </a:r>
            <a:endParaRPr b="0" lang="en-US" sz="2400" spc="-1" strike="noStrike">
              <a:solidFill>
                <a:srgbClr val="00004a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00004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4a"/>
                </a:solidFill>
                <a:latin typeface="Bookman Old Style"/>
              </a:rPr>
              <a:t>Mídia, Comunicação, Motivo e Encerramento</a:t>
            </a:r>
            <a:endParaRPr b="0" lang="en-US" sz="24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Integração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4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4a"/>
                </a:solidFill>
                <a:latin typeface="Bookman Old Style"/>
              </a:rPr>
              <a:t>CTI</a:t>
            </a:r>
            <a:endParaRPr b="0" lang="en-US" sz="2400" spc="-1" strike="noStrike">
              <a:solidFill>
                <a:srgbClr val="00004a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4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4a"/>
                </a:solidFill>
                <a:latin typeface="Bookman Old Style"/>
              </a:rPr>
              <a:t>ERP AP5</a:t>
            </a:r>
            <a:endParaRPr b="0" lang="en-US" sz="2400" spc="-1" strike="noStrike">
              <a:solidFill>
                <a:srgbClr val="00004a"/>
              </a:solidFill>
              <a:latin typeface="Bookman Old Style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66ff"/>
                </a:solidFill>
                <a:latin typeface="Arial"/>
              </a:rPr>
              <a:t>Assistência Técnica</a:t>
            </a: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Chamados técnicos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00004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4a"/>
                </a:solidFill>
                <a:latin typeface="Bookman Old Style"/>
              </a:rPr>
              <a:t>FAQ (Frequently Asked Questions)</a:t>
            </a:r>
            <a:endParaRPr b="0" lang="en-US" sz="2400" spc="-1" strike="noStrike">
              <a:solidFill>
                <a:srgbClr val="00004a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00004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4a"/>
                </a:solidFill>
                <a:latin typeface="Bookman Old Style"/>
              </a:rPr>
              <a:t>Históricos por base instalada e clientes</a:t>
            </a:r>
            <a:endParaRPr b="0" lang="en-US" sz="24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Orçamentos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Ordens de serviço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00004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4a"/>
                </a:solidFill>
                <a:latin typeface="Bookman Old Style"/>
              </a:rPr>
              <a:t>Alocação automática de recursos</a:t>
            </a:r>
            <a:endParaRPr b="0" lang="en-US" sz="2400" spc="-1" strike="noStrike">
              <a:solidFill>
                <a:srgbClr val="00004a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00004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4a"/>
                </a:solidFill>
                <a:latin typeface="Bookman Old Style"/>
              </a:rPr>
              <a:t>Registro de laudos técnicos</a:t>
            </a:r>
            <a:endParaRPr b="0" lang="en-US" sz="24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Contratos inteligentes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Controle de custos e processos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66ff"/>
                </a:solidFill>
                <a:latin typeface="Arial"/>
              </a:rPr>
              <a:t>Gerenciamento</a:t>
            </a: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Identificação de oportunidades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Processos diferenciados por segmento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Cronograma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Metas de venda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Passos de venda (pipeline)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Previsões de venda (forecast)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Custos de venda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66ff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76520" y="2362320"/>
            <a:ext cx="58672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4a"/>
                </a:solidFill>
                <a:latin typeface="Bookman Old Style"/>
              </a:rPr>
              <a:t>CRM: Conceito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4a"/>
                </a:solidFill>
                <a:latin typeface="Bookman Old Style"/>
              </a:rPr>
              <a:t>Canais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4a"/>
                </a:solidFill>
                <a:latin typeface="Bookman Old Style"/>
              </a:rPr>
              <a:t>CRM Analítico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4a"/>
                </a:solidFill>
                <a:latin typeface="Bookman Old Style"/>
              </a:rPr>
              <a:t>Benefícios do CRM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66ff"/>
                </a:solidFill>
                <a:latin typeface="Arial"/>
              </a:rPr>
              <a:t>Benefícios do CRM</a:t>
            </a: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23888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Refina segmentação de clientes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Aumenta retenção de clientes </a:t>
            </a:r>
            <a:br>
              <a:rPr sz="3200"/>
            </a:b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através da fidelização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Aumenta satisfação de clientes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Aumenta gastos de clientes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Estabelece vantagem competitiva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a"/>
                </a:solidFill>
                <a:latin typeface="Bookman Old Style"/>
              </a:rPr>
              <a:t>Aumenta rentabilidade do negócio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visao"/>
          <p:cNvPicPr/>
          <p:nvPr/>
        </p:nvPicPr>
        <p:blipFill>
          <a:blip r:embed="rId1"/>
          <a:stretch/>
        </p:blipFill>
        <p:spPr>
          <a:xfrm>
            <a:off x="611280" y="260280"/>
            <a:ext cx="80643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visaomark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66ff"/>
                </a:solidFill>
                <a:latin typeface="Arial"/>
              </a:rPr>
              <a:t>Exercícios</a:t>
            </a: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23888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a"/>
                </a:solidFill>
                <a:latin typeface="Bookman Old Style"/>
              </a:rPr>
              <a:t>Como sua empresa acompanha o histórico de seus clientes ?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a"/>
                </a:solidFill>
                <a:latin typeface="Bookman Old Style"/>
              </a:rPr>
              <a:t>Suas campanhas de marketing são direcionadas ao perfil de seus clientes?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a"/>
                </a:solidFill>
                <a:latin typeface="Bookman Old Style"/>
              </a:rPr>
              <a:t>Quais são seus produtos mais rentáveis?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a"/>
                </a:solidFill>
                <a:latin typeface="Bookman Old Style"/>
              </a:rPr>
              <a:t>Qual o seu % de clientes rentáveis e não rentáveis?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66ff"/>
                </a:solidFill>
                <a:latin typeface="Arial"/>
              </a:rPr>
              <a:t>CRM: Conceito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85800" y="18288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Gerenciamento do Relacionamento com os Clientes através do conhecimento de seus hábitos e necessidades de consum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1" name="Object 1024" descr=""/>
          <p:cNvPicPr/>
          <p:nvPr/>
        </p:nvPicPr>
        <p:blipFill>
          <a:blip r:embed="rId1"/>
          <a:stretch/>
        </p:blipFill>
        <p:spPr>
          <a:xfrm>
            <a:off x="304920" y="4267080"/>
            <a:ext cx="2895480" cy="1949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/>
          <p:cNvSpPr/>
          <p:nvPr/>
        </p:nvSpPr>
        <p:spPr>
          <a:xfrm>
            <a:off x="3429000" y="4648320"/>
            <a:ext cx="5354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 </a:t>
            </a: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Objetiva Reter, Fidelizar e Agregar Valor ao Clien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9"/>
          <p:cNvSpPr/>
          <p:nvPr/>
        </p:nvSpPr>
        <p:spPr>
          <a:xfrm>
            <a:off x="1447920" y="4724280"/>
            <a:ext cx="1828800" cy="60984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Fidelização</a:t>
            </a:r>
            <a:endParaRPr b="0" lang="en-US" sz="2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447920" y="4114800"/>
            <a:ext cx="1828800" cy="60948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Relacionamento</a:t>
            </a:r>
            <a:endParaRPr b="0" lang="en-US" sz="2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447920" y="3505320"/>
            <a:ext cx="1828800" cy="6094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Conhecimento</a:t>
            </a:r>
            <a:endParaRPr b="0" lang="en-US" sz="2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447920" y="2895480"/>
            <a:ext cx="18288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Informação</a:t>
            </a:r>
            <a:endParaRPr b="0" lang="en-US" sz="2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66ff"/>
                </a:solidFill>
                <a:latin typeface="Arial"/>
              </a:rPr>
              <a:t>CRM: Conceito</a:t>
            </a: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447920" y="2286000"/>
            <a:ext cx="182880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Dados</a:t>
            </a:r>
            <a:endParaRPr b="0" lang="en-US" sz="21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" name="Group 12"/>
          <p:cNvGrpSpPr/>
          <p:nvPr/>
        </p:nvGrpSpPr>
        <p:grpSpPr>
          <a:xfrm>
            <a:off x="3954960" y="1459440"/>
            <a:ext cx="4961160" cy="4244040"/>
            <a:chOff x="3954960" y="1459440"/>
            <a:chExt cx="4961160" cy="4244040"/>
          </a:xfrm>
        </p:grpSpPr>
        <p:sp>
          <p:nvSpPr>
            <p:cNvPr id="60" name="AutoShape 11"/>
            <p:cNvSpPr/>
            <p:nvPr/>
          </p:nvSpPr>
          <p:spPr>
            <a:xfrm rot="1309800">
              <a:off x="4343040" y="2133360"/>
              <a:ext cx="4184640" cy="2895480"/>
            </a:xfrm>
            <a:prstGeom prst="irregularSeal2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" name="Text Box 10"/>
            <p:cNvSpPr/>
            <p:nvPr/>
          </p:nvSpPr>
          <p:spPr>
            <a:xfrm>
              <a:off x="4876920" y="3153240"/>
              <a:ext cx="2989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66"/>
                  </a:solidFill>
                  <a:latin typeface="Times New Roman"/>
                </a:rPr>
                <a:t>Foco no cliente e não em produtos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O óbvio Olulante.</a:t>
            </a: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23640" y="1989000"/>
            <a:ext cx="85690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4a"/>
                </a:solidFill>
                <a:latin typeface="Bookman Old Style"/>
              </a:rPr>
              <a:t>“</a:t>
            </a:r>
            <a:r>
              <a:rPr b="1" i="1" lang="en-US" sz="2800" spc="-1" strike="noStrike">
                <a:solidFill>
                  <a:srgbClr val="00004a"/>
                </a:solidFill>
                <a:latin typeface="Bookman Old Style"/>
              </a:rPr>
              <a:t>Normalmente a pior maneira de se crescer é ir atrás de novos clientes. Se você não cria um relacionamento, eles não terão motivo para voltar a comprar os seus produtos, e os custos para atrair gente nova pode sair muito caro. A melhor maneira é conhecer bem esses clientes e descobrir qual a melhor forma de serví-los.”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a"/>
                </a:solidFill>
                <a:latin typeface="Bookman Old Style"/>
              </a:rPr>
              <a:t>Philipe Kotler.</a:t>
            </a: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a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1"/>
          <p:cNvSpPr/>
          <p:nvPr/>
        </p:nvSpPr>
        <p:spPr>
          <a:xfrm>
            <a:off x="1752480" y="2971800"/>
            <a:ext cx="1676520" cy="3048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Cliente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66ff"/>
                </a:solidFill>
                <a:latin typeface="Arial"/>
              </a:rPr>
              <a:t>CRM: Canais</a:t>
            </a: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Contato através de múltiplos canais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429000" y="5410080"/>
            <a:ext cx="1828800" cy="60984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Face a face</a:t>
            </a:r>
            <a:endParaRPr b="0" lang="en-US" sz="2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429000" y="4800600"/>
            <a:ext cx="1828800" cy="60948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E-mail</a:t>
            </a:r>
            <a:endParaRPr b="0" lang="en-US" sz="2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429000" y="4191120"/>
            <a:ext cx="1828800" cy="6094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429000" y="3581280"/>
            <a:ext cx="18288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Fax</a:t>
            </a:r>
            <a:endParaRPr b="0" lang="en-US" sz="2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429000" y="2971800"/>
            <a:ext cx="182880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Call Center</a:t>
            </a:r>
            <a:endParaRPr b="0" lang="en-US" sz="2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5257800" y="2971800"/>
            <a:ext cx="1676520" cy="3048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Empres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66ff"/>
                </a:solidFill>
                <a:latin typeface="Arial"/>
              </a:rPr>
              <a:t>CRM: Canais</a:t>
            </a: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A Internet possui o menor custo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graphicFrame>
        <p:nvGraphicFramePr>
          <p:cNvPr id="75" name="Object 0"/>
          <p:cNvGraphicFramePr/>
          <p:nvPr/>
        </p:nvGraphicFramePr>
        <p:xfrm>
          <a:off x="1530360" y="2828880"/>
          <a:ext cx="6089760" cy="36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0360" y="2828880"/>
                    <a:ext cx="608976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66ff"/>
                </a:solidFill>
                <a:latin typeface="Arial"/>
              </a:rPr>
              <a:t>CRM Analítico</a:t>
            </a: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Detectar os clientes mais rentáveis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Lei de Pareto : 20% dos clientes respondem por 80% das receitas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838080" y="3733920"/>
          <a:ext cx="5513400" cy="27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733920"/>
                    <a:ext cx="5513400" cy="27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5"/>
          <p:cNvSpPr/>
          <p:nvPr/>
        </p:nvSpPr>
        <p:spPr>
          <a:xfrm>
            <a:off x="6324480" y="481608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Análise dos Clientes de um Banco American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Fonte: Pepers and Rogers Group do Brasi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66ff"/>
                </a:solidFill>
                <a:latin typeface="Arial"/>
              </a:rPr>
              <a:t>CRM Analítico</a:t>
            </a:r>
            <a:endParaRPr b="1" lang="en-US" sz="40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00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Rentabilidade dos Produtos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  <a:p>
            <a:pPr marL="339480" indent="-339480">
              <a:lnSpc>
                <a:spcPct val="140000"/>
              </a:lnSpc>
              <a:spcBef>
                <a:spcPts val="700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Vendas Projetadas x Realizadas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  <a:p>
            <a:pPr marL="339480" indent="-339480">
              <a:lnSpc>
                <a:spcPct val="140000"/>
              </a:lnSpc>
              <a:spcBef>
                <a:spcPts val="700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Decisão sobre manter clientes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  <a:p>
            <a:pPr marL="339480" indent="-339480">
              <a:lnSpc>
                <a:spcPct val="140000"/>
              </a:lnSpc>
              <a:spcBef>
                <a:spcPts val="700"/>
              </a:spcBef>
              <a:buClr>
                <a:srgbClr val="00004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4a"/>
                </a:solidFill>
                <a:latin typeface="Bookman Old Style"/>
              </a:rPr>
              <a:t>Enxergar o potencial de vendas</a:t>
            </a:r>
            <a:endParaRPr b="1" lang="en-US" sz="2800" spc="-1" strike="noStrike">
              <a:solidFill>
                <a:srgbClr val="00004a"/>
              </a:solidFill>
              <a:latin typeface="Bookman Old Style"/>
            </a:endParaRPr>
          </a:p>
        </p:txBody>
      </p:sp>
      <p:pic>
        <p:nvPicPr>
          <p:cNvPr id="84" name="Object 4" descr="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30T10:26:44Z</dcterms:created>
  <dc:creator>Monica Arakaki</dc:creator>
  <dc:description/>
  <dc:language>en-US</dc:language>
  <cp:lastModifiedBy>Romulo</cp:lastModifiedBy>
  <dcterms:modified xsi:type="dcterms:W3CDTF">2008-12-10T18:09:10Z</dcterms:modified>
  <cp:revision>71</cp:revision>
  <dc:subject/>
  <dc:title>Customer Relationship Management</dc:title>
</cp:coreProperties>
</file>